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B24-107F-4D6F-885B-F0FBC7A2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D3E-01C8-484F-B4C6-DE69AF12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5A3-BF20-43B7-9148-D646F7D7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EC2-0AB1-45DF-A656-E1CECC32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051-E4C6-4F72-BF17-1B890AFE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56A-DA1C-4E96-B506-1A7DB306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562-80F3-4C0B-988D-D451B069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227-2F2E-427D-B59E-8711E299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EE8-4864-4FB6-95A1-87B7F525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9B3-8AD2-4D8C-A3AC-5868734C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C15-1846-437A-8EC3-C07414E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077-0070-4B7A-B6E4-8C6B0FC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6FDF-ACC1-4A4E-ABBB-81A60035F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hyperlink" Target="http://www.mocpages.com/image_zoom.php?mocid=187044&amp;id=/user_images/26181/12665441344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x6 with articulating Center-wheel and CG 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880" y="43434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m 33 Killer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killerbees33.com/header4.gif"/>
          <p:cNvPicPr/>
          <p:nvPr/>
        </p:nvPicPr>
        <p:blipFill>
          <a:blip r:embed="rId1"/>
          <a:stretch/>
        </p:blipFill>
        <p:spPr>
          <a:xfrm>
            <a:off x="0" y="152280"/>
            <a:ext cx="9156600" cy="175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33blue_zone1_start.jpg"/>
          <p:cNvPicPr/>
          <p:nvPr/>
        </p:nvPicPr>
        <p:blipFill>
          <a:blip r:embed="rId2"/>
          <a:stretch/>
        </p:blipFill>
        <p:spPr>
          <a:xfrm>
            <a:off x="228600" y="3048120"/>
            <a:ext cx="473400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ssis Design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77480"/>
            <a:ext cx="2819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go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Placeholder 4"/>
          <p:cNvSpPr/>
          <p:nvPr/>
        </p:nvSpPr>
        <p:spPr>
          <a:xfrm>
            <a:off x="457200" y="3943440"/>
            <a:ext cx="2819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nal Chassis on Bum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05160" y="1066320"/>
            <a:ext cx="28191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owerpoint Concept &amp;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5105520" y="1706400"/>
            <a:ext cx="2819160" cy="19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5" name="Text Placeholder 4"/>
          <p:cNvSpPr/>
          <p:nvPr/>
        </p:nvSpPr>
        <p:spPr>
          <a:xfrm>
            <a:off x="5105520" y="3932280"/>
            <a:ext cx="2819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AD Model &amp; Verif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Content Placeholder 14" descr="Buzz15_overbump.jpg"/>
          <p:cNvPicPr/>
          <p:nvPr/>
        </p:nvPicPr>
        <p:blipFill>
          <a:blip r:embed="rId2"/>
          <a:srcRect l="13510" t="3606" r="21622" b="17127"/>
          <a:stretch/>
        </p:blipFill>
        <p:spPr>
          <a:xfrm>
            <a:off x="838080" y="4648320"/>
            <a:ext cx="2210040" cy="2025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3"/>
          <a:stretch/>
        </p:blipFill>
        <p:spPr>
          <a:xfrm>
            <a:off x="5105520" y="4572000"/>
            <a:ext cx="2895480" cy="21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Right Arrow 17"/>
          <p:cNvSpPr/>
          <p:nvPr/>
        </p:nvSpPr>
        <p:spPr>
          <a:xfrm>
            <a:off x="3581280" y="2286000"/>
            <a:ext cx="1219320" cy="6094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Curved Left Arrow 18"/>
          <p:cNvSpPr/>
          <p:nvPr/>
        </p:nvSpPr>
        <p:spPr>
          <a:xfrm>
            <a:off x="8077320" y="2819520"/>
            <a:ext cx="914400" cy="2057400"/>
          </a:xfrm>
          <a:custGeom>
            <a:avLst/>
            <a:gdLst>
              <a:gd name="textAreaLeft" fmla="*/ 122400 w 914400"/>
              <a:gd name="textAreaRight" fmla="*/ 792000 w 914400"/>
              <a:gd name="textAreaTop" fmla="*/ 422280 h 2057400"/>
              <a:gd name="textAreaBottom" fmla="*/ 14954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67" stAng="-5400000" swAng="5400000"/>
                <a:lnTo>
                  <a:pt x="21600" y="11267"/>
                </a:lnTo>
                <a:arcTo wR="21600" hR="8867" stAng="0" swAng="3469875"/>
                <a:lnTo>
                  <a:pt x="5400" y="21318"/>
                </a:lnTo>
                <a:lnTo>
                  <a:pt x="0" y="18934"/>
                </a:lnTo>
                <a:lnTo>
                  <a:pt x="5400" y="15986"/>
                </a:lnTo>
                <a:lnTo>
                  <a:pt x="5400" y="17452"/>
                </a:lnTo>
                <a:arcTo wR="21600" hR="8867" stAng="3469875" swAng="-3277317"/>
                <a:lnTo>
                  <a:pt x="21401" y="10067"/>
                </a:lnTo>
                <a:arcTo wR="21600" hR="8867" stAng="-192558" swAng="-5207442"/>
                <a:close/>
              </a:path>
              <a:path fill="darkenLess" w="21600" h="21600">
                <a:moveTo>
                  <a:pt x="0" y="0"/>
                </a:moveTo>
                <a:arcTo wR="21600" hR="8867" stAng="-5400000" swAng="5400000"/>
                <a:lnTo>
                  <a:pt x="21600" y="11267"/>
                </a:lnTo>
                <a:arcTo wR="21600" hR="8867" stAng="0" swAng="-192558"/>
                <a:lnTo>
                  <a:pt x="21401" y="10067"/>
                </a:lnTo>
                <a:arcTo wR="21600" hR="8867" stAng="-192558" swAng="-520744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ight Arrow 19"/>
          <p:cNvSpPr/>
          <p:nvPr/>
        </p:nvSpPr>
        <p:spPr>
          <a:xfrm rot="10800000">
            <a:off x="3657240" y="54100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http://www.mocpages.com/user_images/26181/12665441344_THUMB.jpg">
            <a:hlinkClick r:id="rId4"/>
          </p:cNvPr>
          <p:cNvPicPr/>
          <p:nvPr/>
        </p:nvPicPr>
        <p:blipFill>
          <a:blip r:embed="rId5"/>
          <a:srcRect l="14039" t="13971" r="8790" b="11623"/>
          <a:stretch/>
        </p:blipFill>
        <p:spPr>
          <a:xfrm>
            <a:off x="609480" y="1828800"/>
            <a:ext cx="2095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x4 long wheel base most stable design for going over bu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x6 drop center usually best compromise (traction vs. maneuverability vs. simpli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x6 drop center will have Dramatic CG migration going over the bump (paper posted on Chief Delph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 6x6 with articulating center whe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x6 with Centered C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e 6x6 with centered (for-aft &amp; side to side) C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8” wheels, assume a CG height at 9&amp;13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s show a sprung middle wheel with 4” of vertical tra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ing Rate will be discussed during sli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gration of Articulating Center Wheel 6x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426960" y="2114640"/>
            <a:ext cx="2697120" cy="741240"/>
            <a:chOff x="426960" y="2114640"/>
            <a:chExt cx="2697120" cy="741240"/>
          </a:xfrm>
        </p:grpSpPr>
        <p:sp>
          <p:nvSpPr>
            <p:cNvPr id="51" name="Straight Connector 4"/>
            <p:cNvSpPr/>
            <p:nvPr/>
          </p:nvSpPr>
          <p:spPr>
            <a:xfrm flipH="1">
              <a:off x="426960" y="285588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rapezoid 5"/>
            <p:cNvSpPr/>
            <p:nvPr/>
          </p:nvSpPr>
          <p:spPr>
            <a:xfrm>
              <a:off x="1684080" y="2492640"/>
              <a:ext cx="1042200" cy="36252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640 h 362520"/>
                <a:gd name="textAreaBottom" fmla="*/ 362520 h 362520"/>
              </a:gdLst>
              <a:ahLst/>
              <a:rect l="textAreaLeft" t="textAreaTop" r="textAreaRight" b="textAreaBottom"/>
              <a:pathLst>
                <a:path w="347472" h="120701">
                  <a:moveTo>
                    <a:pt x="0" y="120701"/>
                  </a:moveTo>
                  <a:lnTo>
                    <a:pt x="115989" y="0"/>
                  </a:lnTo>
                  <a:lnTo>
                    <a:pt x="231483" y="0"/>
                  </a:lnTo>
                  <a:lnTo>
                    <a:pt x="347472" y="12070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700920" y="2558520"/>
              <a:ext cx="1014840" cy="1281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701280" y="2624040"/>
              <a:ext cx="219240" cy="219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1487520" y="2624040"/>
              <a:ext cx="219240" cy="219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ounded Rectangle 9"/>
            <p:cNvSpPr/>
            <p:nvPr/>
          </p:nvSpPr>
          <p:spPr>
            <a:xfrm>
              <a:off x="632520" y="2412000"/>
              <a:ext cx="1152000" cy="1371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owchart: Or 10"/>
            <p:cNvSpPr/>
            <p:nvPr/>
          </p:nvSpPr>
          <p:spPr>
            <a:xfrm>
              <a:off x="1182960" y="2572200"/>
              <a:ext cx="54720" cy="5472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owchart: Or 11"/>
            <p:cNvSpPr/>
            <p:nvPr/>
          </p:nvSpPr>
          <p:spPr>
            <a:xfrm>
              <a:off x="1181880" y="2457720"/>
              <a:ext cx="54720" cy="5472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769680" y="2114640"/>
              <a:ext cx="845640" cy="297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Oval 13"/>
            <p:cNvSpPr/>
            <p:nvPr/>
          </p:nvSpPr>
          <p:spPr>
            <a:xfrm>
              <a:off x="1098720" y="2624040"/>
              <a:ext cx="219240" cy="219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4"/>
          <p:cNvGrpSpPr/>
          <p:nvPr/>
        </p:nvGrpSpPr>
        <p:grpSpPr>
          <a:xfrm>
            <a:off x="3322800" y="1915920"/>
            <a:ext cx="2697120" cy="961920"/>
            <a:chOff x="3322800" y="1915920"/>
            <a:chExt cx="2697120" cy="961920"/>
          </a:xfrm>
        </p:grpSpPr>
        <p:sp>
          <p:nvSpPr>
            <p:cNvPr id="62" name="Straight Connector 15"/>
            <p:cNvSpPr/>
            <p:nvPr/>
          </p:nvSpPr>
          <p:spPr>
            <a:xfrm flipH="1">
              <a:off x="3322800" y="286056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rapezoid 16"/>
            <p:cNvSpPr/>
            <p:nvPr/>
          </p:nvSpPr>
          <p:spPr>
            <a:xfrm>
              <a:off x="4579920" y="2497680"/>
              <a:ext cx="1042200" cy="36216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64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Group 17"/>
            <p:cNvGrpSpPr/>
            <p:nvPr/>
          </p:nvGrpSpPr>
          <p:grpSpPr>
            <a:xfrm>
              <a:off x="3741120" y="1915920"/>
              <a:ext cx="1152720" cy="961920"/>
              <a:chOff x="3741120" y="1915920"/>
              <a:chExt cx="1152720" cy="961920"/>
            </a:xfrm>
          </p:grpSpPr>
          <p:sp>
            <p:nvSpPr>
              <p:cNvPr id="65" name="Rectangle 18"/>
              <p:cNvSpPr/>
              <p:nvPr/>
            </p:nvSpPr>
            <p:spPr>
              <a:xfrm rot="20592000">
                <a:off x="3845520" y="245484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Oval 19"/>
              <p:cNvSpPr/>
              <p:nvPr/>
            </p:nvSpPr>
            <p:spPr>
              <a:xfrm rot="20592000">
                <a:off x="3894840" y="263088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Oval 20"/>
              <p:cNvSpPr/>
              <p:nvPr/>
            </p:nvSpPr>
            <p:spPr>
              <a:xfrm rot="20592000">
                <a:off x="4647600" y="240336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Rounded Rectangle 21"/>
              <p:cNvSpPr/>
              <p:nvPr/>
            </p:nvSpPr>
            <p:spPr>
              <a:xfrm rot="20592000">
                <a:off x="3736080" y="231516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lowchart: Or 22"/>
              <p:cNvSpPr/>
              <p:nvPr/>
            </p:nvSpPr>
            <p:spPr>
              <a:xfrm rot="20592000">
                <a:off x="4320360" y="246960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lowchart: Or 23"/>
              <p:cNvSpPr/>
              <p:nvPr/>
            </p:nvSpPr>
            <p:spPr>
              <a:xfrm rot="20592000">
                <a:off x="4286520" y="236016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Rectangle 24"/>
              <p:cNvSpPr/>
              <p:nvPr/>
            </p:nvSpPr>
            <p:spPr>
              <a:xfrm rot="20592000">
                <a:off x="3810960" y="2031480"/>
                <a:ext cx="845640" cy="297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val 25"/>
              <p:cNvSpPr/>
              <p:nvPr/>
            </p:nvSpPr>
            <p:spPr>
              <a:xfrm rot="20592000">
                <a:off x="4275360" y="251568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" name="Group 26"/>
          <p:cNvGrpSpPr/>
          <p:nvPr/>
        </p:nvGrpSpPr>
        <p:grpSpPr>
          <a:xfrm>
            <a:off x="6218280" y="1838520"/>
            <a:ext cx="2697120" cy="1058040"/>
            <a:chOff x="6218280" y="1838520"/>
            <a:chExt cx="2697120" cy="1058040"/>
          </a:xfrm>
        </p:grpSpPr>
        <p:sp>
          <p:nvSpPr>
            <p:cNvPr id="74" name="Straight Connector 27"/>
            <p:cNvSpPr/>
            <p:nvPr/>
          </p:nvSpPr>
          <p:spPr>
            <a:xfrm flipH="1">
              <a:off x="6218280" y="286704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rapezoid 28"/>
            <p:cNvSpPr/>
            <p:nvPr/>
          </p:nvSpPr>
          <p:spPr>
            <a:xfrm>
              <a:off x="7475400" y="2504520"/>
              <a:ext cx="1042200" cy="36180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280 h 361800"/>
                <a:gd name="textAreaBottom" fmla="*/ 361800 h 36180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" name="Group 25"/>
            <p:cNvGrpSpPr/>
            <p:nvPr/>
          </p:nvGrpSpPr>
          <p:grpSpPr>
            <a:xfrm>
              <a:off x="7088400" y="1838520"/>
              <a:ext cx="1162800" cy="1058040"/>
              <a:chOff x="7088400" y="1838520"/>
              <a:chExt cx="1162800" cy="1058040"/>
            </a:xfrm>
          </p:grpSpPr>
          <p:sp>
            <p:nvSpPr>
              <p:cNvPr id="77" name="Rectangle 30"/>
              <p:cNvSpPr/>
              <p:nvPr/>
            </p:nvSpPr>
            <p:spPr>
              <a:xfrm rot="20021400">
                <a:off x="7198920" y="240948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Oval 31"/>
              <p:cNvSpPr/>
              <p:nvPr/>
            </p:nvSpPr>
            <p:spPr>
              <a:xfrm rot="20021400">
                <a:off x="7289640" y="263988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Oval 32"/>
              <p:cNvSpPr/>
              <p:nvPr/>
            </p:nvSpPr>
            <p:spPr>
              <a:xfrm rot="20021400">
                <a:off x="7994520" y="229140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Rounded Rectangle 33"/>
              <p:cNvSpPr/>
              <p:nvPr/>
            </p:nvSpPr>
            <p:spPr>
              <a:xfrm rot="20021400">
                <a:off x="7067520" y="227772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lowchart: Or 34"/>
              <p:cNvSpPr/>
              <p:nvPr/>
            </p:nvSpPr>
            <p:spPr>
              <a:xfrm rot="20021400">
                <a:off x="7619040" y="232272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35"/>
              <p:cNvSpPr/>
              <p:nvPr/>
            </p:nvSpPr>
            <p:spPr>
              <a:xfrm rot="20021400">
                <a:off x="7110360" y="2010240"/>
                <a:ext cx="845640" cy="297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Oval 36"/>
              <p:cNvSpPr/>
              <p:nvPr/>
            </p:nvSpPr>
            <p:spPr>
              <a:xfrm rot="20021400">
                <a:off x="7598160" y="236664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lowchart: Or 37"/>
              <p:cNvSpPr/>
              <p:nvPr/>
            </p:nvSpPr>
            <p:spPr>
              <a:xfrm rot="20021400">
                <a:off x="7670160" y="242496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" name="Group 38"/>
          <p:cNvGrpSpPr/>
          <p:nvPr/>
        </p:nvGrpSpPr>
        <p:grpSpPr>
          <a:xfrm>
            <a:off x="457200" y="3654360"/>
            <a:ext cx="2697120" cy="1091160"/>
            <a:chOff x="457200" y="3654360"/>
            <a:chExt cx="2697120" cy="1091160"/>
          </a:xfrm>
        </p:grpSpPr>
        <p:sp>
          <p:nvSpPr>
            <p:cNvPr id="86" name="Straight Connector 39"/>
            <p:cNvSpPr/>
            <p:nvPr/>
          </p:nvSpPr>
          <p:spPr>
            <a:xfrm flipH="1">
              <a:off x="457200" y="472140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rapezoid 40"/>
            <p:cNvSpPr/>
            <p:nvPr/>
          </p:nvSpPr>
          <p:spPr>
            <a:xfrm>
              <a:off x="1714320" y="4358520"/>
              <a:ext cx="1042200" cy="36216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64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Group 25"/>
            <p:cNvGrpSpPr/>
            <p:nvPr/>
          </p:nvGrpSpPr>
          <p:grpSpPr>
            <a:xfrm>
              <a:off x="1329840" y="3654360"/>
              <a:ext cx="1176840" cy="1091160"/>
              <a:chOff x="1329840" y="3654360"/>
              <a:chExt cx="1176840" cy="1091160"/>
            </a:xfrm>
          </p:grpSpPr>
          <p:sp>
            <p:nvSpPr>
              <p:cNvPr id="89" name="Rectangle 42"/>
              <p:cNvSpPr/>
              <p:nvPr/>
            </p:nvSpPr>
            <p:spPr>
              <a:xfrm rot="19780200">
                <a:off x="1457280" y="4233960"/>
                <a:ext cx="1014840" cy="1281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Oval 43"/>
              <p:cNvSpPr/>
              <p:nvPr/>
            </p:nvSpPr>
            <p:spPr>
              <a:xfrm rot="19780200">
                <a:off x="1567800" y="448524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Oval 44"/>
              <p:cNvSpPr/>
              <p:nvPr/>
            </p:nvSpPr>
            <p:spPr>
              <a:xfrm rot="19780200">
                <a:off x="2246760" y="408780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Rounded Rectangle 45"/>
              <p:cNvSpPr/>
              <p:nvPr/>
            </p:nvSpPr>
            <p:spPr>
              <a:xfrm rot="19780200">
                <a:off x="1317240" y="410652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lowchart: Or 46"/>
              <p:cNvSpPr/>
              <p:nvPr/>
            </p:nvSpPr>
            <p:spPr>
              <a:xfrm rot="19780200">
                <a:off x="1868400" y="415152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ctangle 47"/>
              <p:cNvSpPr/>
              <p:nvPr/>
            </p:nvSpPr>
            <p:spPr>
              <a:xfrm rot="19780200">
                <a:off x="1346760" y="3847320"/>
                <a:ext cx="845640" cy="297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Oval 48"/>
              <p:cNvSpPr/>
              <p:nvPr/>
            </p:nvSpPr>
            <p:spPr>
              <a:xfrm rot="19780200">
                <a:off x="1856520" y="419076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lowchart: Or 49"/>
              <p:cNvSpPr/>
              <p:nvPr/>
            </p:nvSpPr>
            <p:spPr>
              <a:xfrm rot="19780200">
                <a:off x="1927080" y="425016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7" name="Group 50"/>
          <p:cNvGrpSpPr/>
          <p:nvPr/>
        </p:nvGrpSpPr>
        <p:grpSpPr>
          <a:xfrm>
            <a:off x="3352680" y="3578400"/>
            <a:ext cx="2697120" cy="1110960"/>
            <a:chOff x="3352680" y="3578400"/>
            <a:chExt cx="2697120" cy="1110960"/>
          </a:xfrm>
        </p:grpSpPr>
        <p:sp>
          <p:nvSpPr>
            <p:cNvPr id="98" name="Straight Connector 51"/>
            <p:cNvSpPr/>
            <p:nvPr/>
          </p:nvSpPr>
          <p:spPr>
            <a:xfrm flipH="1">
              <a:off x="3352680" y="468936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rapezoid 52"/>
            <p:cNvSpPr/>
            <p:nvPr/>
          </p:nvSpPr>
          <p:spPr>
            <a:xfrm>
              <a:off x="4609800" y="4326840"/>
              <a:ext cx="1042200" cy="36216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64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" name="Group 25"/>
            <p:cNvGrpSpPr/>
            <p:nvPr/>
          </p:nvGrpSpPr>
          <p:grpSpPr>
            <a:xfrm>
              <a:off x="4280400" y="3578400"/>
              <a:ext cx="1176480" cy="1090440"/>
              <a:chOff x="4280400" y="3578400"/>
              <a:chExt cx="1176480" cy="1090440"/>
            </a:xfrm>
          </p:grpSpPr>
          <p:sp>
            <p:nvSpPr>
              <p:cNvPr id="101" name="Rectangle 54"/>
              <p:cNvSpPr/>
              <p:nvPr/>
            </p:nvSpPr>
            <p:spPr>
              <a:xfrm rot="19780200">
                <a:off x="4407840" y="415764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Oval 55"/>
              <p:cNvSpPr/>
              <p:nvPr/>
            </p:nvSpPr>
            <p:spPr>
              <a:xfrm rot="19780200">
                <a:off x="4518360" y="440892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Oval 56"/>
              <p:cNvSpPr/>
              <p:nvPr/>
            </p:nvSpPr>
            <p:spPr>
              <a:xfrm rot="19780200">
                <a:off x="5197320" y="401148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ounded Rectangle 57"/>
              <p:cNvSpPr/>
              <p:nvPr/>
            </p:nvSpPr>
            <p:spPr>
              <a:xfrm rot="19780200">
                <a:off x="4267800" y="403020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lowchart: Or 58"/>
              <p:cNvSpPr/>
              <p:nvPr/>
            </p:nvSpPr>
            <p:spPr>
              <a:xfrm rot="19780200">
                <a:off x="4818960" y="407520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Rectangle 59"/>
              <p:cNvSpPr/>
              <p:nvPr/>
            </p:nvSpPr>
            <p:spPr>
              <a:xfrm rot="19780200">
                <a:off x="4297320" y="3771360"/>
                <a:ext cx="845640" cy="297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Oval 60"/>
              <p:cNvSpPr/>
              <p:nvPr/>
            </p:nvSpPr>
            <p:spPr>
              <a:xfrm rot="19780200">
                <a:off x="4807080" y="411444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lowchart: Or 61"/>
              <p:cNvSpPr/>
              <p:nvPr/>
            </p:nvSpPr>
            <p:spPr>
              <a:xfrm rot="19780200">
                <a:off x="4877640" y="417384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Group 62"/>
          <p:cNvGrpSpPr/>
          <p:nvPr/>
        </p:nvGrpSpPr>
        <p:grpSpPr>
          <a:xfrm>
            <a:off x="6218280" y="3708360"/>
            <a:ext cx="2697120" cy="986040"/>
            <a:chOff x="6218280" y="3708360"/>
            <a:chExt cx="2697120" cy="986040"/>
          </a:xfrm>
        </p:grpSpPr>
        <p:sp>
          <p:nvSpPr>
            <p:cNvPr id="110" name="Straight Connector 63"/>
            <p:cNvSpPr/>
            <p:nvPr/>
          </p:nvSpPr>
          <p:spPr>
            <a:xfrm flipH="1">
              <a:off x="6218280" y="469440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rapezoid 64"/>
            <p:cNvSpPr/>
            <p:nvPr/>
          </p:nvSpPr>
          <p:spPr>
            <a:xfrm>
              <a:off x="7475400" y="4331520"/>
              <a:ext cx="1042200" cy="36216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64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2" name="Group 25"/>
            <p:cNvGrpSpPr/>
            <p:nvPr/>
          </p:nvGrpSpPr>
          <p:grpSpPr>
            <a:xfrm>
              <a:off x="7498080" y="3708360"/>
              <a:ext cx="1152000" cy="728640"/>
              <a:chOff x="7498080" y="3708360"/>
              <a:chExt cx="1152000" cy="728640"/>
            </a:xfrm>
          </p:grpSpPr>
          <p:sp>
            <p:nvSpPr>
              <p:cNvPr id="113" name="Rectangle 66"/>
              <p:cNvSpPr/>
              <p:nvPr/>
            </p:nvSpPr>
            <p:spPr>
              <a:xfrm>
                <a:off x="7566480" y="415188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Oval 67"/>
              <p:cNvSpPr/>
              <p:nvPr/>
            </p:nvSpPr>
            <p:spPr>
              <a:xfrm>
                <a:off x="7566480" y="421740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Oval 68"/>
              <p:cNvSpPr/>
              <p:nvPr/>
            </p:nvSpPr>
            <p:spPr>
              <a:xfrm>
                <a:off x="8353080" y="421740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Rounded Rectangle 69"/>
              <p:cNvSpPr/>
              <p:nvPr/>
            </p:nvSpPr>
            <p:spPr>
              <a:xfrm>
                <a:off x="7498080" y="400572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lowchart: Or 70"/>
              <p:cNvSpPr/>
              <p:nvPr/>
            </p:nvSpPr>
            <p:spPr>
              <a:xfrm>
                <a:off x="8047440" y="405144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Rectangle 71"/>
              <p:cNvSpPr/>
              <p:nvPr/>
            </p:nvSpPr>
            <p:spPr>
              <a:xfrm>
                <a:off x="7635240" y="3708360"/>
                <a:ext cx="845640" cy="297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Oval 72"/>
              <p:cNvSpPr/>
              <p:nvPr/>
            </p:nvSpPr>
            <p:spPr>
              <a:xfrm>
                <a:off x="7964280" y="410904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lowchart: Or 73"/>
              <p:cNvSpPr/>
              <p:nvPr/>
            </p:nvSpPr>
            <p:spPr>
              <a:xfrm>
                <a:off x="8048160" y="416592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1" name="Group 74"/>
          <p:cNvGrpSpPr/>
          <p:nvPr/>
        </p:nvGrpSpPr>
        <p:grpSpPr>
          <a:xfrm>
            <a:off x="457200" y="5605920"/>
            <a:ext cx="2697120" cy="1094760"/>
            <a:chOff x="457200" y="5605920"/>
            <a:chExt cx="2697120" cy="1094760"/>
          </a:xfrm>
        </p:grpSpPr>
        <p:sp>
          <p:nvSpPr>
            <p:cNvPr id="122" name="Straight Connector 75"/>
            <p:cNvSpPr/>
            <p:nvPr/>
          </p:nvSpPr>
          <p:spPr>
            <a:xfrm flipH="1">
              <a:off x="457200" y="670068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rapezoid 76"/>
            <p:cNvSpPr/>
            <p:nvPr/>
          </p:nvSpPr>
          <p:spPr>
            <a:xfrm>
              <a:off x="1714320" y="6337800"/>
              <a:ext cx="1042200" cy="36216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64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" name="Group 25"/>
            <p:cNvGrpSpPr/>
            <p:nvPr/>
          </p:nvGrpSpPr>
          <p:grpSpPr>
            <a:xfrm>
              <a:off x="1764000" y="5605920"/>
              <a:ext cx="1161360" cy="963360"/>
              <a:chOff x="1764000" y="5605920"/>
              <a:chExt cx="1161360" cy="963360"/>
            </a:xfrm>
          </p:grpSpPr>
          <p:sp>
            <p:nvSpPr>
              <p:cNvPr id="125" name="Rectangle 78"/>
              <p:cNvSpPr/>
              <p:nvPr/>
            </p:nvSpPr>
            <p:spPr>
              <a:xfrm rot="984000">
                <a:off x="1805400" y="615240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Oval 79"/>
              <p:cNvSpPr/>
              <p:nvPr/>
            </p:nvSpPr>
            <p:spPr>
              <a:xfrm rot="984000">
                <a:off x="1790280" y="610128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Oval 80"/>
              <p:cNvSpPr/>
              <p:nvPr/>
            </p:nvSpPr>
            <p:spPr>
              <a:xfrm rot="984000">
                <a:off x="2544840" y="632304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81"/>
              <p:cNvSpPr/>
              <p:nvPr/>
            </p:nvSpPr>
            <p:spPr>
              <a:xfrm rot="984000">
                <a:off x="1777320" y="601200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lowchart: Or 82"/>
              <p:cNvSpPr/>
              <p:nvPr/>
            </p:nvSpPr>
            <p:spPr>
              <a:xfrm rot="984000">
                <a:off x="2325240" y="605808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Rectangle 83"/>
              <p:cNvSpPr/>
              <p:nvPr/>
            </p:nvSpPr>
            <p:spPr>
              <a:xfrm rot="984000">
                <a:off x="1976040" y="5718960"/>
                <a:ext cx="845640" cy="297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Oval 84"/>
              <p:cNvSpPr/>
              <p:nvPr/>
            </p:nvSpPr>
            <p:spPr>
              <a:xfrm rot="984000">
                <a:off x="2202480" y="610956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lowchart: Or 85"/>
              <p:cNvSpPr/>
              <p:nvPr/>
            </p:nvSpPr>
            <p:spPr>
              <a:xfrm rot="984000">
                <a:off x="2293560" y="616788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3" name="Group 86"/>
          <p:cNvGrpSpPr/>
          <p:nvPr/>
        </p:nvGrpSpPr>
        <p:grpSpPr>
          <a:xfrm>
            <a:off x="3352320" y="5617080"/>
            <a:ext cx="2697480" cy="1107720"/>
            <a:chOff x="3352320" y="5617080"/>
            <a:chExt cx="2697480" cy="1107720"/>
          </a:xfrm>
        </p:grpSpPr>
        <p:grpSp>
          <p:nvGrpSpPr>
            <p:cNvPr id="134" name="Group 23"/>
            <p:cNvGrpSpPr/>
            <p:nvPr/>
          </p:nvGrpSpPr>
          <p:grpSpPr>
            <a:xfrm>
              <a:off x="3352320" y="6336360"/>
              <a:ext cx="2697480" cy="362880"/>
              <a:chOff x="3352320" y="6336360"/>
              <a:chExt cx="2697480" cy="362880"/>
            </a:xfrm>
          </p:grpSpPr>
          <p:sp>
            <p:nvSpPr>
              <p:cNvPr id="135" name="Straight Connector 97"/>
              <p:cNvSpPr/>
              <p:nvPr/>
            </p:nvSpPr>
            <p:spPr>
              <a:xfrm flipH="1">
                <a:off x="3352320" y="6699240"/>
                <a:ext cx="2697480" cy="0"/>
              </a:xfrm>
              <a:prstGeom prst="line">
                <a:avLst/>
              </a:prstGeom>
              <a:ln w="50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rapezoid 98"/>
              <p:cNvSpPr/>
              <p:nvPr/>
            </p:nvSpPr>
            <p:spPr>
              <a:xfrm>
                <a:off x="4609800" y="6336360"/>
                <a:ext cx="1042200" cy="362520"/>
              </a:xfrm>
              <a:custGeom>
                <a:avLst/>
                <a:gdLst>
                  <a:gd name="textAreaLeft" fmla="*/ 231840 w 1042200"/>
                  <a:gd name="textAreaRight" fmla="*/ 810360 w 1042200"/>
                  <a:gd name="textAreaTop" fmla="*/ 80640 h 362520"/>
                  <a:gd name="textAreaBottom" fmla="*/ 362880 h 362520"/>
                </a:gdLst>
                <a:ahLst/>
                <a:rect l="textAreaLeft" t="textAreaTop" r="textAreaRight" b="textAreaBottom"/>
                <a:pathLst>
                  <a:path w="3474720" h="1207008">
                    <a:moveTo>
                      <a:pt x="0" y="1207008"/>
                    </a:moveTo>
                    <a:lnTo>
                      <a:pt x="1159886" y="0"/>
                    </a:lnTo>
                    <a:lnTo>
                      <a:pt x="2314834" y="0"/>
                    </a:lnTo>
                    <a:lnTo>
                      <a:pt x="3474720" y="1207008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" name="Group 25"/>
            <p:cNvGrpSpPr/>
            <p:nvPr/>
          </p:nvGrpSpPr>
          <p:grpSpPr>
            <a:xfrm>
              <a:off x="4861080" y="5617080"/>
              <a:ext cx="1158840" cy="1107720"/>
              <a:chOff x="4861080" y="5617080"/>
              <a:chExt cx="1158840" cy="1107720"/>
            </a:xfrm>
          </p:grpSpPr>
          <p:sp>
            <p:nvSpPr>
              <p:cNvPr id="138" name="Rectangle 89"/>
              <p:cNvSpPr/>
              <p:nvPr/>
            </p:nvSpPr>
            <p:spPr>
              <a:xfrm rot="1861800">
                <a:off x="4901760" y="621432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Oval 90"/>
              <p:cNvSpPr/>
              <p:nvPr/>
            </p:nvSpPr>
            <p:spPr>
              <a:xfrm rot="1861800">
                <a:off x="4901760" y="605880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Oval 91"/>
              <p:cNvSpPr/>
              <p:nvPr/>
            </p:nvSpPr>
            <p:spPr>
              <a:xfrm rot="1861800">
                <a:off x="5575680" y="646416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Rounded Rectangle 92"/>
              <p:cNvSpPr/>
              <p:nvPr/>
            </p:nvSpPr>
            <p:spPr>
              <a:xfrm rot="1861800">
                <a:off x="4906440" y="608832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lowchart: Or 93"/>
              <p:cNvSpPr/>
              <p:nvPr/>
            </p:nvSpPr>
            <p:spPr>
              <a:xfrm rot="1861800">
                <a:off x="5453280" y="613368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Rectangle 94"/>
              <p:cNvSpPr/>
              <p:nvPr/>
            </p:nvSpPr>
            <p:spPr>
              <a:xfrm rot="1861800">
                <a:off x="5158080" y="5813640"/>
                <a:ext cx="845640" cy="297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Oval 95"/>
              <p:cNvSpPr/>
              <p:nvPr/>
            </p:nvSpPr>
            <p:spPr>
              <a:xfrm rot="1861800">
                <a:off x="5298480" y="617076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lowchart: Or 96"/>
              <p:cNvSpPr/>
              <p:nvPr/>
            </p:nvSpPr>
            <p:spPr>
              <a:xfrm rot="1861800">
                <a:off x="5394960" y="623232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6" name="Group 99"/>
          <p:cNvGrpSpPr/>
          <p:nvPr/>
        </p:nvGrpSpPr>
        <p:grpSpPr>
          <a:xfrm>
            <a:off x="6248520" y="5632200"/>
            <a:ext cx="2765160" cy="1073160"/>
            <a:chOff x="6248520" y="5632200"/>
            <a:chExt cx="2765160" cy="1073160"/>
          </a:xfrm>
        </p:grpSpPr>
        <p:sp>
          <p:nvSpPr>
            <p:cNvPr id="147" name="Straight Connector 100"/>
            <p:cNvSpPr/>
            <p:nvPr/>
          </p:nvSpPr>
          <p:spPr>
            <a:xfrm flipH="1">
              <a:off x="6248520" y="667548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rapezoid 101"/>
            <p:cNvSpPr/>
            <p:nvPr/>
          </p:nvSpPr>
          <p:spPr>
            <a:xfrm>
              <a:off x="7505640" y="6312960"/>
              <a:ext cx="1042200" cy="36180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280 h 361800"/>
                <a:gd name="textAreaBottom" fmla="*/ 361800 h 36180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9" name="Group 25"/>
            <p:cNvGrpSpPr/>
            <p:nvPr/>
          </p:nvGrpSpPr>
          <p:grpSpPr>
            <a:xfrm>
              <a:off x="7852680" y="5632200"/>
              <a:ext cx="1161000" cy="1073160"/>
              <a:chOff x="7852680" y="5632200"/>
              <a:chExt cx="1161000" cy="1073160"/>
            </a:xfrm>
          </p:grpSpPr>
          <p:sp>
            <p:nvSpPr>
              <p:cNvPr id="150" name="Rectangle 103"/>
              <p:cNvSpPr/>
              <p:nvPr/>
            </p:nvSpPr>
            <p:spPr>
              <a:xfrm rot="1612800">
                <a:off x="7897680" y="621900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Oval 104"/>
              <p:cNvSpPr/>
              <p:nvPr/>
            </p:nvSpPr>
            <p:spPr>
              <a:xfrm rot="1612800">
                <a:off x="7890120" y="609264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Oval 105"/>
              <p:cNvSpPr/>
              <p:nvPr/>
            </p:nvSpPr>
            <p:spPr>
              <a:xfrm rot="1612800">
                <a:off x="8591760" y="644796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ounded Rectangle 106"/>
              <p:cNvSpPr/>
              <p:nvPr/>
            </p:nvSpPr>
            <p:spPr>
              <a:xfrm rot="1612800">
                <a:off x="7893360" y="6087960"/>
                <a:ext cx="1151640" cy="1368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lowchart: Or 107"/>
              <p:cNvSpPr/>
              <p:nvPr/>
            </p:nvSpPr>
            <p:spPr>
              <a:xfrm rot="1612800">
                <a:off x="8440200" y="613368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108"/>
              <p:cNvSpPr/>
              <p:nvPr/>
            </p:nvSpPr>
            <p:spPr>
              <a:xfrm rot="1612800">
                <a:off x="8129880" y="5807160"/>
                <a:ext cx="845640" cy="297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Oval 109"/>
              <p:cNvSpPr/>
              <p:nvPr/>
            </p:nvSpPr>
            <p:spPr>
              <a:xfrm rot="1612800">
                <a:off x="8276760" y="623772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lowchart: Or 110"/>
              <p:cNvSpPr/>
              <p:nvPr/>
            </p:nvSpPr>
            <p:spPr>
              <a:xfrm rot="1612800">
                <a:off x="8389440" y="623592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8" name="TextBox 122"/>
          <p:cNvSpPr/>
          <p:nvPr/>
        </p:nvSpPr>
        <p:spPr>
          <a:xfrm>
            <a:off x="38088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3"/>
          <p:cNvSpPr/>
          <p:nvPr/>
        </p:nvSpPr>
        <p:spPr>
          <a:xfrm>
            <a:off x="3352680" y="24494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24"/>
          <p:cNvSpPr/>
          <p:nvPr/>
        </p:nvSpPr>
        <p:spPr>
          <a:xfrm>
            <a:off x="6248520" y="24494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26"/>
          <p:cNvSpPr/>
          <p:nvPr/>
        </p:nvSpPr>
        <p:spPr>
          <a:xfrm>
            <a:off x="38088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27"/>
          <p:cNvSpPr/>
          <p:nvPr/>
        </p:nvSpPr>
        <p:spPr>
          <a:xfrm>
            <a:off x="3352680" y="4278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28"/>
          <p:cNvSpPr/>
          <p:nvPr/>
        </p:nvSpPr>
        <p:spPr>
          <a:xfrm>
            <a:off x="6248520" y="4278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29"/>
          <p:cNvSpPr/>
          <p:nvPr/>
        </p:nvSpPr>
        <p:spPr>
          <a:xfrm>
            <a:off x="380880" y="6294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30"/>
          <p:cNvSpPr/>
          <p:nvPr/>
        </p:nvSpPr>
        <p:spPr>
          <a:xfrm>
            <a:off x="3352680" y="6305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1"/>
          <p:cNvSpPr/>
          <p:nvPr/>
        </p:nvSpPr>
        <p:spPr>
          <a:xfrm>
            <a:off x="6248520" y="6305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traight Connector 29"/>
          <p:cNvSpPr/>
          <p:nvPr/>
        </p:nvSpPr>
        <p:spPr>
          <a:xfrm flipH="1">
            <a:off x="151920" y="5440320"/>
            <a:ext cx="899172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x6 4” lift Centered C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rapezoid 9"/>
          <p:cNvSpPr/>
          <p:nvPr/>
        </p:nvSpPr>
        <p:spPr>
          <a:xfrm>
            <a:off x="4343400" y="4230720"/>
            <a:ext cx="3475080" cy="1208160"/>
          </a:xfrm>
          <a:custGeom>
            <a:avLst/>
            <a:gdLst>
              <a:gd name="textAreaLeft" fmla="*/ 773280 w 3475080"/>
              <a:gd name="textAreaRight" fmla="*/ 2701800 w 3475080"/>
              <a:gd name="textAreaTop" fmla="*/ 268920 h 1208160"/>
              <a:gd name="textAreaBottom" fmla="*/ 1208520 h 1208160"/>
            </a:gdLst>
            <a:ahLst/>
            <a:rect l="textAreaLeft" t="textAreaTop" r="textAreaRight" b="textAreaBottom"/>
            <a:pathLst>
              <a:path w="3474720" h="1207008">
                <a:moveTo>
                  <a:pt x="0" y="1207008"/>
                </a:moveTo>
                <a:lnTo>
                  <a:pt x="1159886" y="0"/>
                </a:lnTo>
                <a:lnTo>
                  <a:pt x="2314834" y="0"/>
                </a:lnTo>
                <a:lnTo>
                  <a:pt x="3474720" y="120700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1066680" y="4449600"/>
            <a:ext cx="3382920" cy="427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1066680" y="4668840"/>
            <a:ext cx="731880" cy="730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687840" y="4668840"/>
            <a:ext cx="731880" cy="730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ounded Rectangle 12"/>
          <p:cNvSpPr/>
          <p:nvPr/>
        </p:nvSpPr>
        <p:spPr>
          <a:xfrm>
            <a:off x="838080" y="3962520"/>
            <a:ext cx="3840120" cy="457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lowchart: Or 16"/>
          <p:cNvSpPr/>
          <p:nvPr/>
        </p:nvSpPr>
        <p:spPr>
          <a:xfrm>
            <a:off x="2671920" y="4495680"/>
            <a:ext cx="183960" cy="182520"/>
          </a:xfrm>
          <a:prstGeom prst="flowChartOr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lowchart: Or 24"/>
          <p:cNvSpPr/>
          <p:nvPr/>
        </p:nvSpPr>
        <p:spPr>
          <a:xfrm>
            <a:off x="2670120" y="4114800"/>
            <a:ext cx="182520" cy="182520"/>
          </a:xfrm>
          <a:prstGeom prst="flowChartOr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1295280" y="2971800"/>
            <a:ext cx="281952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2392200" y="4668840"/>
            <a:ext cx="731880" cy="730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27"/>
          <p:cNvGrpSpPr/>
          <p:nvPr/>
        </p:nvGrpSpPr>
        <p:grpSpPr>
          <a:xfrm>
            <a:off x="2438280" y="4191120"/>
            <a:ext cx="533520" cy="2055600"/>
            <a:chOff x="2438280" y="4191120"/>
            <a:chExt cx="533520" cy="2055600"/>
          </a:xfrm>
        </p:grpSpPr>
        <p:cxnSp>
          <p:nvCxnSpPr>
            <p:cNvPr id="179" name="Straight Arrow Connector 18"/>
            <p:cNvCxnSpPr/>
            <p:nvPr/>
          </p:nvCxnSpPr>
          <p:spPr>
            <a:xfrm flipH="1">
              <a:off x="2752920" y="4191120"/>
              <a:ext cx="2160" cy="158256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80" name="TextBox 22"/>
            <p:cNvSpPr/>
            <p:nvPr/>
          </p:nvSpPr>
          <p:spPr>
            <a:xfrm>
              <a:off x="2438280" y="58784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oup 15"/>
          <p:cNvGrpSpPr/>
          <p:nvPr/>
        </p:nvGrpSpPr>
        <p:grpSpPr>
          <a:xfrm>
            <a:off x="8169120" y="6535800"/>
            <a:ext cx="898560" cy="245880"/>
            <a:chOff x="8169120" y="6535800"/>
            <a:chExt cx="898560" cy="245880"/>
          </a:xfrm>
        </p:grpSpPr>
        <p:sp>
          <p:nvSpPr>
            <p:cNvPr id="182" name="Straight Connector 17"/>
            <p:cNvSpPr/>
            <p:nvPr/>
          </p:nvSpPr>
          <p:spPr>
            <a:xfrm flipH="1">
              <a:off x="8169120" y="6781680"/>
              <a:ext cx="89856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rapezoid 21"/>
            <p:cNvSpPr/>
            <p:nvPr/>
          </p:nvSpPr>
          <p:spPr>
            <a:xfrm>
              <a:off x="8587800" y="6661080"/>
              <a:ext cx="347040" cy="120240"/>
            </a:xfrm>
            <a:custGeom>
              <a:avLst/>
              <a:gdLst>
                <a:gd name="textAreaLeft" fmla="*/ 77040 w 347040"/>
                <a:gd name="textAreaRight" fmla="*/ 270000 w 347040"/>
                <a:gd name="textAreaTop" fmla="*/ 2664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347472" h="120701">
                  <a:moveTo>
                    <a:pt x="0" y="120701"/>
                  </a:moveTo>
                  <a:lnTo>
                    <a:pt x="115989" y="0"/>
                  </a:lnTo>
                  <a:lnTo>
                    <a:pt x="231483" y="0"/>
                  </a:lnTo>
                  <a:lnTo>
                    <a:pt x="347472" y="12070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23"/>
            <p:cNvSpPr/>
            <p:nvPr/>
          </p:nvSpPr>
          <p:spPr>
            <a:xfrm>
              <a:off x="8260200" y="6683040"/>
              <a:ext cx="338040" cy="424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Oval 25"/>
            <p:cNvSpPr/>
            <p:nvPr/>
          </p:nvSpPr>
          <p:spPr>
            <a:xfrm>
              <a:off x="8260560" y="6705000"/>
              <a:ext cx="73080" cy="72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26"/>
            <p:cNvSpPr/>
            <p:nvPr/>
          </p:nvSpPr>
          <p:spPr>
            <a:xfrm>
              <a:off x="8522280" y="6705000"/>
              <a:ext cx="73080" cy="72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ounded Rectangle 27"/>
            <p:cNvSpPr/>
            <p:nvPr/>
          </p:nvSpPr>
          <p:spPr>
            <a:xfrm>
              <a:off x="8237520" y="6634440"/>
              <a:ext cx="383760" cy="453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lowchart: Or 28"/>
            <p:cNvSpPr/>
            <p:nvPr/>
          </p:nvSpPr>
          <p:spPr>
            <a:xfrm>
              <a:off x="8420760" y="6687720"/>
              <a:ext cx="18000" cy="1800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lowchart: Or 30"/>
            <p:cNvSpPr/>
            <p:nvPr/>
          </p:nvSpPr>
          <p:spPr>
            <a:xfrm>
              <a:off x="8420760" y="6649560"/>
              <a:ext cx="18000" cy="1800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Rectangle 31"/>
            <p:cNvSpPr/>
            <p:nvPr/>
          </p:nvSpPr>
          <p:spPr>
            <a:xfrm>
              <a:off x="8283240" y="6535800"/>
              <a:ext cx="281520" cy="98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32"/>
            <p:cNvSpPr/>
            <p:nvPr/>
          </p:nvSpPr>
          <p:spPr>
            <a:xfrm>
              <a:off x="8393040" y="6705000"/>
              <a:ext cx="73080" cy="72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traight Connector 29"/>
          <p:cNvSpPr/>
          <p:nvPr/>
        </p:nvSpPr>
        <p:spPr>
          <a:xfrm flipH="1">
            <a:off x="151920" y="4678200"/>
            <a:ext cx="899172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x6 4” lift Centered C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rapezoid 9"/>
          <p:cNvSpPr/>
          <p:nvPr/>
        </p:nvSpPr>
        <p:spPr>
          <a:xfrm>
            <a:off x="4343400" y="3468600"/>
            <a:ext cx="3475080" cy="1208160"/>
          </a:xfrm>
          <a:custGeom>
            <a:avLst/>
            <a:gdLst>
              <a:gd name="textAreaLeft" fmla="*/ 773280 w 3475080"/>
              <a:gd name="textAreaRight" fmla="*/ 2701800 w 3475080"/>
              <a:gd name="textAreaTop" fmla="*/ 268920 h 1208160"/>
              <a:gd name="textAreaBottom" fmla="*/ 1208520 h 1208160"/>
            </a:gdLst>
            <a:ahLst/>
            <a:rect l="textAreaLeft" t="textAreaTop" r="textAreaRight" b="textAreaBottom"/>
            <a:pathLst>
              <a:path w="3474720" h="1207008">
                <a:moveTo>
                  <a:pt x="0" y="1207008"/>
                </a:moveTo>
                <a:lnTo>
                  <a:pt x="1159886" y="0"/>
                </a:lnTo>
                <a:lnTo>
                  <a:pt x="2314834" y="0"/>
                </a:lnTo>
                <a:lnTo>
                  <a:pt x="3474720" y="120700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1"/>
          <p:cNvSpPr/>
          <p:nvPr/>
        </p:nvSpPr>
        <p:spPr>
          <a:xfrm>
            <a:off x="152280" y="510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iculation engaged.  Chassis is climbing.  This is the worst inclination and will the resultants show between 60% and 50%  spring rate would still work.  Adding in rear axle torque (for an 8” wheel), this will go down significantly (assuming 50% weight on rear wheel, torque could be as high as 140lbs*0.5*4”rad=280in*lbs.  At this angle, 700 in*lbs would balance the bot thus there can be no more than 42 lbs of spring load on the middle whee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25"/>
          <p:cNvGrpSpPr/>
          <p:nvPr/>
        </p:nvGrpSpPr>
        <p:grpSpPr>
          <a:xfrm>
            <a:off x="3061800" y="1123200"/>
            <a:ext cx="3923280" cy="3635280"/>
            <a:chOff x="3061800" y="1123200"/>
            <a:chExt cx="3923280" cy="3635280"/>
          </a:xfrm>
        </p:grpSpPr>
        <p:sp>
          <p:nvSpPr>
            <p:cNvPr id="197" name="Rectangle 11"/>
            <p:cNvSpPr/>
            <p:nvPr/>
          </p:nvSpPr>
          <p:spPr>
            <a:xfrm rot="19780200">
              <a:off x="3487680" y="3054960"/>
              <a:ext cx="3382920" cy="426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5"/>
            <p:cNvSpPr/>
            <p:nvPr/>
          </p:nvSpPr>
          <p:spPr>
            <a:xfrm rot="19780200">
              <a:off x="3856320" y="3891960"/>
              <a:ext cx="731160" cy="731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 rot="19780200">
              <a:off x="6118920" y="2568240"/>
              <a:ext cx="731160" cy="731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ounded Rectangle 12"/>
            <p:cNvSpPr/>
            <p:nvPr/>
          </p:nvSpPr>
          <p:spPr>
            <a:xfrm rot="19780200">
              <a:off x="3020400" y="2631600"/>
              <a:ext cx="384012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lowchart: Or 24"/>
            <p:cNvSpPr/>
            <p:nvPr/>
          </p:nvSpPr>
          <p:spPr>
            <a:xfrm rot="19780200">
              <a:off x="4858560" y="2781000"/>
              <a:ext cx="182520" cy="182880"/>
            </a:xfrm>
            <a:prstGeom prst="flowChar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Rectangle 19"/>
            <p:cNvSpPr/>
            <p:nvPr/>
          </p:nvSpPr>
          <p:spPr>
            <a:xfrm rot="19780200">
              <a:off x="3119040" y="1766880"/>
              <a:ext cx="2819160" cy="9910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Oval 20"/>
            <p:cNvSpPr/>
            <p:nvPr/>
          </p:nvSpPr>
          <p:spPr>
            <a:xfrm rot="19780200">
              <a:off x="4818240" y="2910960"/>
              <a:ext cx="731160" cy="731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lowchart: Or 16"/>
            <p:cNvSpPr/>
            <p:nvPr/>
          </p:nvSpPr>
          <p:spPr>
            <a:xfrm rot="19780200">
              <a:off x="5054040" y="3108240"/>
              <a:ext cx="182520" cy="182880"/>
            </a:xfrm>
            <a:prstGeom prst="flowChar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27"/>
          <p:cNvGrpSpPr/>
          <p:nvPr/>
        </p:nvGrpSpPr>
        <p:grpSpPr>
          <a:xfrm>
            <a:off x="4821120" y="3200400"/>
            <a:ext cx="533520" cy="2055600"/>
            <a:chOff x="4821120" y="3200400"/>
            <a:chExt cx="533520" cy="2055600"/>
          </a:xfrm>
        </p:grpSpPr>
        <p:cxnSp>
          <p:nvCxnSpPr>
            <p:cNvPr id="206" name="Straight Arrow Connector 18"/>
            <p:cNvCxnSpPr/>
            <p:nvPr/>
          </p:nvCxnSpPr>
          <p:spPr>
            <a:xfrm flipH="1">
              <a:off x="5135760" y="3200400"/>
              <a:ext cx="2160" cy="158256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TextBox 22"/>
            <p:cNvSpPr/>
            <p:nvPr/>
          </p:nvSpPr>
          <p:spPr>
            <a:xfrm>
              <a:off x="4821120" y="48877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27"/>
          <p:cNvGrpSpPr/>
          <p:nvPr/>
        </p:nvGrpSpPr>
        <p:grpSpPr>
          <a:xfrm>
            <a:off x="4622760" y="2860200"/>
            <a:ext cx="533520" cy="2056320"/>
            <a:chOff x="4622760" y="2860200"/>
            <a:chExt cx="533520" cy="2056320"/>
          </a:xfrm>
        </p:grpSpPr>
        <p:cxnSp>
          <p:nvCxnSpPr>
            <p:cNvPr id="209" name="Straight Arrow Connector 28"/>
            <p:cNvCxnSpPr/>
            <p:nvPr/>
          </p:nvCxnSpPr>
          <p:spPr>
            <a:xfrm flipH="1">
              <a:off x="4937400" y="2860200"/>
              <a:ext cx="2160" cy="158292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0" name="TextBox 30"/>
            <p:cNvSpPr/>
            <p:nvPr/>
          </p:nvSpPr>
          <p:spPr>
            <a:xfrm>
              <a:off x="4622760" y="4548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Group 23"/>
          <p:cNvGrpSpPr/>
          <p:nvPr/>
        </p:nvGrpSpPr>
        <p:grpSpPr>
          <a:xfrm>
            <a:off x="8169120" y="6426720"/>
            <a:ext cx="898560" cy="363240"/>
            <a:chOff x="8169120" y="6426720"/>
            <a:chExt cx="898560" cy="363240"/>
          </a:xfrm>
        </p:grpSpPr>
        <p:sp>
          <p:nvSpPr>
            <p:cNvPr id="212" name="Straight Connector 25"/>
            <p:cNvSpPr/>
            <p:nvPr/>
          </p:nvSpPr>
          <p:spPr>
            <a:xfrm flipH="1">
              <a:off x="8169120" y="6781680"/>
              <a:ext cx="89856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rapezoid 26"/>
            <p:cNvSpPr/>
            <p:nvPr/>
          </p:nvSpPr>
          <p:spPr>
            <a:xfrm>
              <a:off x="8587800" y="6661080"/>
              <a:ext cx="347040" cy="120600"/>
            </a:xfrm>
            <a:custGeom>
              <a:avLst/>
              <a:gdLst>
                <a:gd name="textAreaLeft" fmla="*/ 77040 w 347040"/>
                <a:gd name="textAreaRight" fmla="*/ 270000 w 347040"/>
                <a:gd name="textAreaTop" fmla="*/ 2664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4" name="Group 25"/>
            <p:cNvGrpSpPr/>
            <p:nvPr/>
          </p:nvGrpSpPr>
          <p:grpSpPr>
            <a:xfrm>
              <a:off x="8459640" y="6426720"/>
              <a:ext cx="392040" cy="363240"/>
              <a:chOff x="8459640" y="6426720"/>
              <a:chExt cx="392040" cy="363240"/>
            </a:xfrm>
          </p:grpSpPr>
          <p:sp>
            <p:nvSpPr>
              <p:cNvPr id="215" name="Rectangle 31"/>
              <p:cNvSpPr/>
              <p:nvPr/>
            </p:nvSpPr>
            <p:spPr>
              <a:xfrm rot="19780200">
                <a:off x="8501760" y="6619320"/>
                <a:ext cx="338040" cy="424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Oval 32"/>
              <p:cNvSpPr/>
              <p:nvPr/>
            </p:nvSpPr>
            <p:spPr>
              <a:xfrm rot="19780200">
                <a:off x="8538840" y="670320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Oval 33"/>
              <p:cNvSpPr/>
              <p:nvPr/>
            </p:nvSpPr>
            <p:spPr>
              <a:xfrm rot="19780200">
                <a:off x="8764920" y="657072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Rounded Rectangle 34"/>
              <p:cNvSpPr/>
              <p:nvPr/>
            </p:nvSpPr>
            <p:spPr>
              <a:xfrm rot="19780200">
                <a:off x="8455680" y="6577560"/>
                <a:ext cx="383760" cy="4572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lowchart: Or 35"/>
              <p:cNvSpPr/>
              <p:nvPr/>
            </p:nvSpPr>
            <p:spPr>
              <a:xfrm rot="19780200">
                <a:off x="8638920" y="6591960"/>
                <a:ext cx="18000" cy="1800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36"/>
              <p:cNvSpPr/>
              <p:nvPr/>
            </p:nvSpPr>
            <p:spPr>
              <a:xfrm rot="19780200">
                <a:off x="8465040" y="6490800"/>
                <a:ext cx="281880" cy="99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Oval 37"/>
              <p:cNvSpPr/>
              <p:nvPr/>
            </p:nvSpPr>
            <p:spPr>
              <a:xfrm rot="19780200">
                <a:off x="8634960" y="660528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lowchart: Or 38"/>
              <p:cNvSpPr/>
              <p:nvPr/>
            </p:nvSpPr>
            <p:spPr>
              <a:xfrm rot="19780200">
                <a:off x="8658720" y="6624720"/>
                <a:ext cx="18000" cy="1800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3" name="TextBox 39"/>
          <p:cNvSpPr/>
          <p:nvPr/>
        </p:nvSpPr>
        <p:spPr>
          <a:xfrm>
            <a:off x="380880" y="26668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different CG locations and the appropriate Gravity V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4" name="Straight Arrow Connector 41"/>
          <p:cNvCxnSpPr>
            <a:stCxn id="223" idx="3"/>
          </p:cNvCxnSpPr>
          <p:nvPr/>
        </p:nvCxnSpPr>
        <p:spPr>
          <a:xfrm flipV="1">
            <a:off x="2285640" y="2895120"/>
            <a:ext cx="243900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Straight Arrow Connector 42"/>
          <p:cNvCxnSpPr>
            <a:stCxn id="223" idx="3"/>
            <a:endCxn id="204" idx="2"/>
          </p:cNvCxnSpPr>
          <p:nvPr/>
        </p:nvCxnSpPr>
        <p:spPr>
          <a:xfrm flipV="1">
            <a:off x="2285640" y="3244320"/>
            <a:ext cx="2780280" cy="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29"/>
          <p:cNvSpPr/>
          <p:nvPr/>
        </p:nvSpPr>
        <p:spPr>
          <a:xfrm flipH="1">
            <a:off x="151920" y="5440320"/>
            <a:ext cx="899172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x6 4” lift Centered C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rapezoid 9"/>
          <p:cNvSpPr/>
          <p:nvPr/>
        </p:nvSpPr>
        <p:spPr>
          <a:xfrm>
            <a:off x="4343400" y="4230720"/>
            <a:ext cx="3475080" cy="1208160"/>
          </a:xfrm>
          <a:custGeom>
            <a:avLst/>
            <a:gdLst>
              <a:gd name="textAreaLeft" fmla="*/ 773280 w 3475080"/>
              <a:gd name="textAreaRight" fmla="*/ 2701800 w 3475080"/>
              <a:gd name="textAreaTop" fmla="*/ 268920 h 1208160"/>
              <a:gd name="textAreaBottom" fmla="*/ 1208520 h 1208160"/>
            </a:gdLst>
            <a:ahLst/>
            <a:rect l="textAreaLeft" t="textAreaTop" r="textAreaRight" b="textAreaBottom"/>
            <a:pathLst>
              <a:path w="3474720" h="1207008">
                <a:moveTo>
                  <a:pt x="0" y="1207008"/>
                </a:moveTo>
                <a:lnTo>
                  <a:pt x="1159886" y="0"/>
                </a:lnTo>
                <a:lnTo>
                  <a:pt x="2314834" y="0"/>
                </a:lnTo>
                <a:lnTo>
                  <a:pt x="3474720" y="120700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304920" y="60958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the robot is beginning its descent down the front slop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25"/>
          <p:cNvGrpSpPr/>
          <p:nvPr/>
        </p:nvGrpSpPr>
        <p:grpSpPr>
          <a:xfrm>
            <a:off x="4860720" y="1688760"/>
            <a:ext cx="3871800" cy="3574080"/>
            <a:chOff x="4860720" y="1688760"/>
            <a:chExt cx="3871800" cy="3574080"/>
          </a:xfrm>
        </p:grpSpPr>
        <p:sp>
          <p:nvSpPr>
            <p:cNvPr id="231" name="Rectangle 11"/>
            <p:cNvSpPr/>
            <p:nvPr/>
          </p:nvSpPr>
          <p:spPr>
            <a:xfrm rot="1605600">
              <a:off x="5010840" y="3644640"/>
              <a:ext cx="3382920" cy="426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Oval 5"/>
            <p:cNvSpPr/>
            <p:nvPr/>
          </p:nvSpPr>
          <p:spPr>
            <a:xfrm rot="1605600">
              <a:off x="4986000" y="3225960"/>
              <a:ext cx="731160" cy="7311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Oval 7"/>
            <p:cNvSpPr/>
            <p:nvPr/>
          </p:nvSpPr>
          <p:spPr>
            <a:xfrm rot="1605600">
              <a:off x="7326720" y="4406040"/>
              <a:ext cx="731160" cy="7311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ounded Rectangle 12"/>
            <p:cNvSpPr/>
            <p:nvPr/>
          </p:nvSpPr>
          <p:spPr>
            <a:xfrm rot="1605600">
              <a:off x="4995000" y="3207240"/>
              <a:ext cx="3840120" cy="456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lowchart: Or 24"/>
            <p:cNvSpPr/>
            <p:nvPr/>
          </p:nvSpPr>
          <p:spPr>
            <a:xfrm rot="1605600">
              <a:off x="6818760" y="3358800"/>
              <a:ext cx="182520" cy="18252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 rot="1605600">
              <a:off x="5783400" y="2270160"/>
              <a:ext cx="2819160" cy="9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Oval 20"/>
            <p:cNvSpPr/>
            <p:nvPr/>
          </p:nvSpPr>
          <p:spPr>
            <a:xfrm rot="1605600">
              <a:off x="6332400" y="3500280"/>
              <a:ext cx="731160" cy="7311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lowchart: Or 16"/>
            <p:cNvSpPr/>
            <p:nvPr/>
          </p:nvSpPr>
          <p:spPr>
            <a:xfrm rot="1605600">
              <a:off x="6649920" y="3700800"/>
              <a:ext cx="182520" cy="18252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27"/>
          <p:cNvGrpSpPr/>
          <p:nvPr/>
        </p:nvGrpSpPr>
        <p:grpSpPr>
          <a:xfrm>
            <a:off x="6486480" y="3779640"/>
            <a:ext cx="533520" cy="1999080"/>
            <a:chOff x="6486480" y="3779640"/>
            <a:chExt cx="533520" cy="1999080"/>
          </a:xfrm>
        </p:grpSpPr>
        <p:cxnSp>
          <p:nvCxnSpPr>
            <p:cNvPr id="240" name="Straight Arrow Connector 18"/>
            <p:cNvCxnSpPr/>
            <p:nvPr/>
          </p:nvCxnSpPr>
          <p:spPr>
            <a:xfrm flipH="1">
              <a:off x="6731640" y="3779640"/>
              <a:ext cx="2160" cy="15822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41" name="TextBox 22"/>
            <p:cNvSpPr/>
            <p:nvPr/>
          </p:nvSpPr>
          <p:spPr>
            <a:xfrm>
              <a:off x="6486480" y="54104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27"/>
          <p:cNvGrpSpPr/>
          <p:nvPr/>
        </p:nvGrpSpPr>
        <p:grpSpPr>
          <a:xfrm>
            <a:off x="6583320" y="3429000"/>
            <a:ext cx="533520" cy="2055600"/>
            <a:chOff x="6583320" y="3429000"/>
            <a:chExt cx="533520" cy="2055600"/>
          </a:xfrm>
        </p:grpSpPr>
        <p:cxnSp>
          <p:nvCxnSpPr>
            <p:cNvPr id="243" name="Straight Arrow Connector 28"/>
            <p:cNvCxnSpPr/>
            <p:nvPr/>
          </p:nvCxnSpPr>
          <p:spPr>
            <a:xfrm flipH="1">
              <a:off x="6897960" y="3429000"/>
              <a:ext cx="2160" cy="158256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44" name="TextBox 30"/>
            <p:cNvSpPr/>
            <p:nvPr/>
          </p:nvSpPr>
          <p:spPr>
            <a:xfrm>
              <a:off x="6583320" y="51163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23"/>
          <p:cNvGrpSpPr/>
          <p:nvPr/>
        </p:nvGrpSpPr>
        <p:grpSpPr>
          <a:xfrm>
            <a:off x="8169120" y="6406560"/>
            <a:ext cx="898560" cy="375120"/>
            <a:chOff x="8169120" y="6406560"/>
            <a:chExt cx="898560" cy="375120"/>
          </a:xfrm>
        </p:grpSpPr>
        <p:sp>
          <p:nvSpPr>
            <p:cNvPr id="246" name="Straight Connector 25"/>
            <p:cNvSpPr/>
            <p:nvPr/>
          </p:nvSpPr>
          <p:spPr>
            <a:xfrm flipH="1">
              <a:off x="8169120" y="6781680"/>
              <a:ext cx="89856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rapezoid 26"/>
            <p:cNvSpPr/>
            <p:nvPr/>
          </p:nvSpPr>
          <p:spPr>
            <a:xfrm>
              <a:off x="8587800" y="6660720"/>
              <a:ext cx="347040" cy="120600"/>
            </a:xfrm>
            <a:custGeom>
              <a:avLst/>
              <a:gdLst>
                <a:gd name="textAreaLeft" fmla="*/ 77040 w 347040"/>
                <a:gd name="textAreaRight" fmla="*/ 270000 w 347040"/>
                <a:gd name="textAreaTop" fmla="*/ 2664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8" name="Group 25"/>
            <p:cNvGrpSpPr/>
            <p:nvPr/>
          </p:nvGrpSpPr>
          <p:grpSpPr>
            <a:xfrm>
              <a:off x="8639640" y="6406560"/>
              <a:ext cx="387000" cy="357480"/>
              <a:chOff x="8639640" y="6406560"/>
              <a:chExt cx="387000" cy="357480"/>
            </a:xfrm>
          </p:grpSpPr>
          <p:sp>
            <p:nvSpPr>
              <p:cNvPr id="249" name="Rectangle 31"/>
              <p:cNvSpPr/>
              <p:nvPr/>
            </p:nvSpPr>
            <p:spPr>
              <a:xfrm rot="1605600">
                <a:off x="8654400" y="6602040"/>
                <a:ext cx="338040" cy="424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Oval 32"/>
              <p:cNvSpPr/>
              <p:nvPr/>
            </p:nvSpPr>
            <p:spPr>
              <a:xfrm rot="1605600">
                <a:off x="8651880" y="655992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Oval 33"/>
              <p:cNvSpPr/>
              <p:nvPr/>
            </p:nvSpPr>
            <p:spPr>
              <a:xfrm rot="1605600">
                <a:off x="8885880" y="667800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ounded Rectangle 34"/>
              <p:cNvSpPr/>
              <p:nvPr/>
            </p:nvSpPr>
            <p:spPr>
              <a:xfrm rot="1605600">
                <a:off x="8652960" y="6558480"/>
                <a:ext cx="383760" cy="4572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lowchart: Or 35"/>
              <p:cNvSpPr/>
              <p:nvPr/>
            </p:nvSpPr>
            <p:spPr>
              <a:xfrm rot="1605600">
                <a:off x="8835480" y="6573240"/>
                <a:ext cx="18000" cy="1800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Rectangle 36"/>
              <p:cNvSpPr/>
              <p:nvPr/>
            </p:nvSpPr>
            <p:spPr>
              <a:xfrm rot="1605600">
                <a:off x="8731800" y="6464520"/>
                <a:ext cx="281880" cy="99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Oval 37"/>
              <p:cNvSpPr/>
              <p:nvPr/>
            </p:nvSpPr>
            <p:spPr>
              <a:xfrm rot="1605600">
                <a:off x="8786520" y="658728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lowchart: Or 38"/>
              <p:cNvSpPr/>
              <p:nvPr/>
            </p:nvSpPr>
            <p:spPr>
              <a:xfrm rot="1605600">
                <a:off x="8818560" y="6607440"/>
                <a:ext cx="18000" cy="1800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traight Connector 29"/>
          <p:cNvSpPr/>
          <p:nvPr/>
        </p:nvSpPr>
        <p:spPr>
          <a:xfrm flipH="1">
            <a:off x="151920" y="5440320"/>
            <a:ext cx="899172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x6 4” lift Centered C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rapezoid 9"/>
          <p:cNvSpPr/>
          <p:nvPr/>
        </p:nvSpPr>
        <p:spPr>
          <a:xfrm>
            <a:off x="4343400" y="4230720"/>
            <a:ext cx="3475080" cy="1208160"/>
          </a:xfrm>
          <a:custGeom>
            <a:avLst/>
            <a:gdLst>
              <a:gd name="textAreaLeft" fmla="*/ 773280 w 3475080"/>
              <a:gd name="textAreaRight" fmla="*/ 2701800 w 3475080"/>
              <a:gd name="textAreaTop" fmla="*/ 268920 h 1208160"/>
              <a:gd name="textAreaBottom" fmla="*/ 1208520 h 1208160"/>
            </a:gdLst>
            <a:ahLst/>
            <a:rect l="textAreaLeft" t="textAreaTop" r="textAreaRight" b="textAreaBottom"/>
            <a:pathLst>
              <a:path w="3474720" h="1207008">
                <a:moveTo>
                  <a:pt x="0" y="1207008"/>
                </a:moveTo>
                <a:lnTo>
                  <a:pt x="1159886" y="0"/>
                </a:lnTo>
                <a:lnTo>
                  <a:pt x="2314834" y="0"/>
                </a:lnTo>
                <a:lnTo>
                  <a:pt x="3474720" y="120700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04920" y="60958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 Wheel has touched down and the robot will drive off relatively s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Group 25"/>
          <p:cNvGrpSpPr/>
          <p:nvPr/>
        </p:nvGrpSpPr>
        <p:grpSpPr>
          <a:xfrm>
            <a:off x="5500800" y="1960560"/>
            <a:ext cx="3871440" cy="3579120"/>
            <a:chOff x="5500800" y="1960560"/>
            <a:chExt cx="3871440" cy="3579120"/>
          </a:xfrm>
        </p:grpSpPr>
        <p:sp>
          <p:nvSpPr>
            <p:cNvPr id="262" name="Rectangle 11"/>
            <p:cNvSpPr/>
            <p:nvPr/>
          </p:nvSpPr>
          <p:spPr>
            <a:xfrm rot="1612800">
              <a:off x="5650920" y="3918240"/>
              <a:ext cx="3382920" cy="426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5"/>
            <p:cNvSpPr/>
            <p:nvPr/>
          </p:nvSpPr>
          <p:spPr>
            <a:xfrm rot="1612800">
              <a:off x="5626440" y="3496680"/>
              <a:ext cx="731160" cy="731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7"/>
            <p:cNvSpPr/>
            <p:nvPr/>
          </p:nvSpPr>
          <p:spPr>
            <a:xfrm rot="1612800">
              <a:off x="7964640" y="4681800"/>
              <a:ext cx="731160" cy="731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Rounded Rectangle 12"/>
            <p:cNvSpPr/>
            <p:nvPr/>
          </p:nvSpPr>
          <p:spPr>
            <a:xfrm rot="1612800">
              <a:off x="5636160" y="3481200"/>
              <a:ext cx="384012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lowchart: Or 24"/>
            <p:cNvSpPr/>
            <p:nvPr/>
          </p:nvSpPr>
          <p:spPr>
            <a:xfrm rot="1612800">
              <a:off x="7459920" y="3633120"/>
              <a:ext cx="182520" cy="18288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 rot="1612800">
              <a:off x="6426000" y="2544120"/>
              <a:ext cx="2819160" cy="9910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20"/>
            <p:cNvSpPr/>
            <p:nvPr/>
          </p:nvSpPr>
          <p:spPr>
            <a:xfrm rot="1612800">
              <a:off x="6914520" y="3979800"/>
              <a:ext cx="731160" cy="731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lowchart: Or 16"/>
            <p:cNvSpPr/>
            <p:nvPr/>
          </p:nvSpPr>
          <p:spPr>
            <a:xfrm rot="1612800">
              <a:off x="7290360" y="3974400"/>
              <a:ext cx="182520" cy="18288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27"/>
          <p:cNvGrpSpPr/>
          <p:nvPr/>
        </p:nvGrpSpPr>
        <p:grpSpPr>
          <a:xfrm>
            <a:off x="7142040" y="4044960"/>
            <a:ext cx="533520" cy="1998720"/>
            <a:chOff x="7142040" y="4044960"/>
            <a:chExt cx="533520" cy="1998720"/>
          </a:xfrm>
        </p:grpSpPr>
        <p:cxnSp>
          <p:nvCxnSpPr>
            <p:cNvPr id="271" name="Straight Arrow Connector 18"/>
            <p:cNvCxnSpPr/>
            <p:nvPr/>
          </p:nvCxnSpPr>
          <p:spPr>
            <a:xfrm flipH="1">
              <a:off x="7387200" y="4044960"/>
              <a:ext cx="2160" cy="158256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72" name="TextBox 22"/>
            <p:cNvSpPr/>
            <p:nvPr/>
          </p:nvSpPr>
          <p:spPr>
            <a:xfrm>
              <a:off x="7142040" y="56754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Group 27"/>
          <p:cNvGrpSpPr/>
          <p:nvPr/>
        </p:nvGrpSpPr>
        <p:grpSpPr>
          <a:xfrm>
            <a:off x="7238880" y="3726000"/>
            <a:ext cx="533520" cy="2054520"/>
            <a:chOff x="7238880" y="3726000"/>
            <a:chExt cx="533520" cy="2054520"/>
          </a:xfrm>
        </p:grpSpPr>
        <p:cxnSp>
          <p:nvCxnSpPr>
            <p:cNvPr id="274" name="Straight Arrow Connector 28"/>
            <p:cNvCxnSpPr/>
            <p:nvPr/>
          </p:nvCxnSpPr>
          <p:spPr>
            <a:xfrm flipH="1">
              <a:off x="7553520" y="3726000"/>
              <a:ext cx="2160" cy="15818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75" name="TextBox 30"/>
            <p:cNvSpPr/>
            <p:nvPr/>
          </p:nvSpPr>
          <p:spPr>
            <a:xfrm>
              <a:off x="7238880" y="5412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23"/>
          <p:cNvGrpSpPr/>
          <p:nvPr/>
        </p:nvGrpSpPr>
        <p:grpSpPr>
          <a:xfrm>
            <a:off x="8136000" y="6433560"/>
            <a:ext cx="921240" cy="357840"/>
            <a:chOff x="8136000" y="6433560"/>
            <a:chExt cx="921240" cy="357840"/>
          </a:xfrm>
        </p:grpSpPr>
        <p:sp>
          <p:nvSpPr>
            <p:cNvPr id="277" name="Straight Connector 25"/>
            <p:cNvSpPr/>
            <p:nvPr/>
          </p:nvSpPr>
          <p:spPr>
            <a:xfrm flipH="1">
              <a:off x="8136000" y="6781680"/>
              <a:ext cx="89856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Trapezoid 26"/>
            <p:cNvSpPr/>
            <p:nvPr/>
          </p:nvSpPr>
          <p:spPr>
            <a:xfrm>
              <a:off x="8554680" y="6660720"/>
              <a:ext cx="347040" cy="120600"/>
            </a:xfrm>
            <a:custGeom>
              <a:avLst/>
              <a:gdLst>
                <a:gd name="textAreaLeft" fmla="*/ 77040 w 347040"/>
                <a:gd name="textAreaRight" fmla="*/ 270000 w 347040"/>
                <a:gd name="textAreaTop" fmla="*/ 2664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9" name="Group 25"/>
            <p:cNvGrpSpPr/>
            <p:nvPr/>
          </p:nvGrpSpPr>
          <p:grpSpPr>
            <a:xfrm>
              <a:off x="8669880" y="6433560"/>
              <a:ext cx="387360" cy="357840"/>
              <a:chOff x="8669880" y="6433560"/>
              <a:chExt cx="387360" cy="357840"/>
            </a:xfrm>
          </p:grpSpPr>
          <p:sp>
            <p:nvSpPr>
              <p:cNvPr id="280" name="Rectangle 31"/>
              <p:cNvSpPr/>
              <p:nvPr/>
            </p:nvSpPr>
            <p:spPr>
              <a:xfrm rot="1612800">
                <a:off x="8684640" y="6629040"/>
                <a:ext cx="338040" cy="424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Oval 32"/>
              <p:cNvSpPr/>
              <p:nvPr/>
            </p:nvSpPr>
            <p:spPr>
              <a:xfrm rot="1612800">
                <a:off x="8682480" y="658692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Oval 33"/>
              <p:cNvSpPr/>
              <p:nvPr/>
            </p:nvSpPr>
            <p:spPr>
              <a:xfrm rot="1612800">
                <a:off x="8916120" y="670536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Rounded Rectangle 34"/>
              <p:cNvSpPr/>
              <p:nvPr/>
            </p:nvSpPr>
            <p:spPr>
              <a:xfrm rot="1612800">
                <a:off x="8683560" y="6585480"/>
                <a:ext cx="383760" cy="4572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lowchart: Or 35"/>
              <p:cNvSpPr/>
              <p:nvPr/>
            </p:nvSpPr>
            <p:spPr>
              <a:xfrm rot="1612800">
                <a:off x="8865360" y="6600600"/>
                <a:ext cx="18000" cy="1800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Rectangle 36"/>
              <p:cNvSpPr/>
              <p:nvPr/>
            </p:nvSpPr>
            <p:spPr>
              <a:xfrm rot="1612800">
                <a:off x="8762400" y="6491880"/>
                <a:ext cx="281880" cy="99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Oval 37"/>
              <p:cNvSpPr/>
              <p:nvPr/>
            </p:nvSpPr>
            <p:spPr>
              <a:xfrm rot="1612800">
                <a:off x="8811360" y="663516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lowchart: Or 38"/>
              <p:cNvSpPr/>
              <p:nvPr/>
            </p:nvSpPr>
            <p:spPr>
              <a:xfrm rot="1612800">
                <a:off x="8848440" y="6634800"/>
                <a:ext cx="18000" cy="1800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ticulating 6x6 will likely have a rear biased CG.  Move heavy components (motors, battery, pump…) as far forward as possible to strive for a balanced chas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ictures show a sprung middle wheel with 4” of vertical tra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ring Rate in the down direction must be minimized as it does not help going over the bum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lifting the middle wheel, even a 13” CG should be relatively s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5:18:30Z</dcterms:created>
  <dc:creator>rifeie</dc:creator>
  <dc:description/>
  <dc:language>en-US</dc:language>
  <cp:lastModifiedBy>rifeie</cp:lastModifiedBy>
  <dcterms:modified xsi:type="dcterms:W3CDTF">2010-04-21T21:29:19Z</dcterms:modified>
  <cp:revision>62</cp:revision>
  <dc:subject/>
  <dc:title>6x6 with articulating Center-wheel and CG Migration</dc:title>
</cp:coreProperties>
</file>